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B60-8708-4B25-9260-C09E8D89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65E-BB03-42B4-A78D-2765D5EF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006-F740-4D4A-8820-174F2517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E07-35F6-4E78-BF02-F43CBB7E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BDF-3CA5-48B4-B8A1-4DF86142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62C-E030-45CF-AB09-B9B1F7C5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CD8-3F76-460E-979E-903652A7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079-869D-4832-9042-1139D96A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F37-2341-455F-A3BE-1A0A739A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7AC-5279-481D-9373-95825BCA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D94-EAF5-4D58-84D1-64C9DDDD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FA6-0E70-4E45-9B43-3F711F39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19D9-9A23-4232-99A9-6B6D783B0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762120"/>
            <a:ext cx="76201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00ff"/>
                  </a:outerShdw>
                </a:effectLst>
                <a:latin typeface="Arial Black"/>
              </a:rPr>
              <a:t>Изграждане на характер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ff00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Характерните черти на родителите се отразяват от детето като в огледало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GA00268" descr=""/>
          <p:cNvPicPr/>
          <p:nvPr/>
        </p:nvPicPr>
        <p:blipFill>
          <a:blip r:embed="rId1"/>
          <a:stretch/>
        </p:blipFill>
        <p:spPr>
          <a:xfrm>
            <a:off x="6867360" y="4140360"/>
            <a:ext cx="2276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7200" y="1447560"/>
            <a:ext cx="99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ве особени чувства се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оформят през ранното детство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14240" y="33526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увство за добро и лошо, редно и нередн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увство за собствено достойнств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GA00281" descr=""/>
          <p:cNvPicPr/>
          <p:nvPr/>
        </p:nvPicPr>
        <p:blipFill>
          <a:blip r:embed="rId1"/>
          <a:stretch/>
        </p:blipFill>
        <p:spPr>
          <a:xfrm>
            <a:off x="0" y="4518000"/>
            <a:ext cx="22496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ак да изградим последователност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учете детето да обича вас и хората около нег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те го, че чрез неспазване правилата на обществото то наранява другит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 неподходящо поведение го наказвайте така, че да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чувства вината с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ъдете нежни, а същевременно- последователни и твърд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GA00272" descr=""/>
          <p:cNvPicPr/>
          <p:nvPr/>
        </p:nvPicPr>
        <p:blipFill>
          <a:blip r:embed="rId1"/>
          <a:stretch/>
        </p:blipFill>
        <p:spPr>
          <a:xfrm>
            <a:off x="6858000" y="4194000"/>
            <a:ext cx="2843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991080" y="609120"/>
            <a:ext cx="1127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Изграждане на себеконтро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ко страхът от наказание диктува поведението на детето, това не е достатъчн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търпение и любов му обяснете защо във ваше отсъствие трябва да се държи като във вашето присъстви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очаквайте бързи резултати и не се обезсърчавайте от някои неуспех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762480" y="609120"/>
            <a:ext cx="1074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Етапи в моралното израстване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 да може малкото дете да схване принципа за определяне добро и зло, са необходими 4-5 годин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цата на възраст 5 до 10 години приемат правилата като нещо непроменим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ед 10-годишна възраст децата се опитват да променят правилат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CGA00298" descr=""/>
          <p:cNvPicPr/>
          <p:nvPr/>
        </p:nvPicPr>
        <p:blipFill>
          <a:blip r:embed="rId1"/>
          <a:stretch/>
        </p:blipFill>
        <p:spPr>
          <a:xfrm>
            <a:off x="6794640" y="3886200"/>
            <a:ext cx="234936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838440" y="1980720"/>
            <a:ext cx="1074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ак да помогнем на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етето си да изгради </a:t>
            </a:r>
            <a:br>
              <a:rPr sz="60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добър характер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CGA00270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8484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ак да помогнем на детето с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явете интерес към това, което детето прав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майте общи дейности- игри, домакинстване, работа в двора, ходене на гост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белязвайте всяка негова добра прояв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го критикувайте и наказвайте непрекъснат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GA00319" descr=""/>
          <p:cNvPicPr/>
          <p:nvPr/>
        </p:nvPicPr>
        <p:blipFill>
          <a:blip r:embed="rId1"/>
          <a:stretch/>
        </p:blipFill>
        <p:spPr>
          <a:xfrm>
            <a:off x="7334280" y="4419720"/>
            <a:ext cx="18097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Ако искате да имате успех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 работата с вашето дете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не обръщайте ОСОБЕНО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нимание на нещата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оито не харесвате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 неговото поведение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GA00337" descr=""/>
          <p:cNvPicPr/>
          <p:nvPr/>
        </p:nvPicPr>
        <p:blipFill>
          <a:blip r:embed="rId1"/>
          <a:stretch/>
        </p:blipFill>
        <p:spPr>
          <a:xfrm>
            <a:off x="6657840" y="4438800"/>
            <a:ext cx="24861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929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оощрявайте добрите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рояви чрез награди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охвали, специално внимание. Така непоощрените лоши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накрая ще изчезнат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GA00338" descr=""/>
          <p:cNvPicPr/>
          <p:nvPr/>
        </p:nvPicPr>
        <p:blipFill>
          <a:blip r:embed="rId1"/>
          <a:stretch/>
        </p:blipFill>
        <p:spPr>
          <a:xfrm>
            <a:off x="6996240" y="4729320"/>
            <a:ext cx="21477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ълно единодушие трябва да има между двамата родители по отношение методите на възпитание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GA00345" descr=""/>
          <p:cNvPicPr/>
          <p:nvPr/>
        </p:nvPicPr>
        <p:blipFill>
          <a:blip r:embed="rId1"/>
          <a:stretch/>
        </p:blipFill>
        <p:spPr>
          <a:xfrm>
            <a:off x="7238880" y="2438280"/>
            <a:ext cx="1508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Какво означава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характер?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GA00117" descr=""/>
          <p:cNvPicPr/>
          <p:nvPr/>
        </p:nvPicPr>
        <p:blipFill>
          <a:blip r:embed="rId1"/>
          <a:stretch/>
        </p:blipFill>
        <p:spPr>
          <a:xfrm>
            <a:off x="6977160" y="4305240"/>
            <a:ext cx="21668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аботата и изграждането на характера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ботата е средство за изграждане на ЗДРАВ УМ,  ДОБЪР ХАРАКТЕР, ЗДРАВО ТЯЛ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ко родителите изпитват удоволствие, вършейки определена работа, детето също ще изпитва удоволстви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GA00364" descr=""/>
          <p:cNvPicPr/>
          <p:nvPr/>
        </p:nvPicPr>
        <p:blipFill>
          <a:blip r:embed="rId1"/>
          <a:stretch/>
        </p:blipFill>
        <p:spPr>
          <a:xfrm>
            <a:off x="7718400" y="4917960"/>
            <a:ext cx="14256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аботата и изграждането на характера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же да се намери подходяща работа за детето във всяка възраст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ботете заедно с децата си, това ще им достави удоволстви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поправяйте работата след детето, само му помогнете да я поправ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GA00367" descr=""/>
          <p:cNvPicPr/>
          <p:nvPr/>
        </p:nvPicPr>
        <p:blipFill>
          <a:blip r:embed="rId1"/>
          <a:stretch/>
        </p:blipFill>
        <p:spPr>
          <a:xfrm>
            <a:off x="7397640" y="5048280"/>
            <a:ext cx="1746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ъздействието на телевизията върху характера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цените на престъпление и насилие увреждат характер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левизията отнема времето за общуване на семейството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я ограбва времето за игра и движение на детето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GA00369" descr=""/>
          <p:cNvPicPr/>
          <p:nvPr/>
        </p:nvPicPr>
        <p:blipFill>
          <a:blip r:embed="rId1"/>
          <a:stretch/>
        </p:blipFill>
        <p:spPr>
          <a:xfrm>
            <a:off x="7288200" y="4468680"/>
            <a:ext cx="18558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929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уховното възпитание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е предпоставка за изграждане на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благороден характер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GA00370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828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1310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Първите седем години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а най-благоприятното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реме за изграждане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 детското съзнание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представата за Бог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GA00372" descr=""/>
          <p:cNvPicPr/>
          <p:nvPr/>
        </p:nvPicPr>
        <p:blipFill>
          <a:blip r:embed="rId1"/>
          <a:stretch/>
        </p:blipFill>
        <p:spPr>
          <a:xfrm>
            <a:off x="7361280" y="4919760"/>
            <a:ext cx="17827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ървите уроци, които родителите трябва да предадат на децата си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а уроци на покорност, любезност, честност, несебелюбие, търпение, почит към Бога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CGA00373" descr=""/>
          <p:cNvPicPr/>
          <p:nvPr/>
        </p:nvPicPr>
        <p:blipFill>
          <a:blip r:embed="rId1"/>
          <a:stretch/>
        </p:blipFill>
        <p:spPr>
          <a:xfrm>
            <a:off x="7470720" y="5059440"/>
            <a:ext cx="16732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Родителите са на мястото на Бога в ранните детски години, затова бъдете добър пример на християнско поведение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GA00374" descr=""/>
          <p:cNvPicPr/>
          <p:nvPr/>
        </p:nvPicPr>
        <p:blipFill>
          <a:blip r:embed="rId1"/>
          <a:stretch/>
        </p:blipFill>
        <p:spPr>
          <a:xfrm>
            <a:off x="7480440" y="3048120"/>
            <a:ext cx="166356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Говорете на детето за Бога, разказвайте му библейски истории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GA00387" descr=""/>
          <p:cNvPicPr/>
          <p:nvPr/>
        </p:nvPicPr>
        <p:blipFill>
          <a:blip r:embed="rId1"/>
          <a:stretch/>
        </p:blipFill>
        <p:spPr>
          <a:xfrm>
            <a:off x="6246720" y="4608360"/>
            <a:ext cx="28972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09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тделете си време за семейно богослужение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GA00389" descr=""/>
          <p:cNvPicPr/>
          <p:nvPr/>
        </p:nvPicPr>
        <p:blipFill>
          <a:blip r:embed="rId1"/>
          <a:stretch/>
        </p:blipFill>
        <p:spPr>
          <a:xfrm>
            <a:off x="2819520" y="3936960"/>
            <a:ext cx="4003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рисъствайте редовно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 църковните богослужения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GA00427" descr=""/>
          <p:cNvPicPr/>
          <p:nvPr/>
        </p:nvPicPr>
        <p:blipFill>
          <a:blip r:embed="rId1"/>
          <a:stretch/>
        </p:blipFill>
        <p:spPr>
          <a:xfrm>
            <a:off x="6218280" y="3657600"/>
            <a:ext cx="29257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ъвкупността от външните прояви на човека  определя неговата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ичност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GA00093" descr=""/>
          <p:cNvPicPr/>
          <p:nvPr/>
        </p:nvPicPr>
        <p:blipFill>
          <a:blip r:embed="rId1"/>
          <a:stretch/>
        </p:blipFill>
        <p:spPr>
          <a:xfrm>
            <a:off x="6438960" y="3943440"/>
            <a:ext cx="27050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895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ие ще имате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християнски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дом, ако осигурите присъствието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Христос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в него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GA00471" descr=""/>
          <p:cNvPicPr/>
          <p:nvPr/>
        </p:nvPicPr>
        <p:blipFill>
          <a:blip r:embed="rId1"/>
          <a:stretch/>
        </p:blipFill>
        <p:spPr>
          <a:xfrm>
            <a:off x="7205760" y="4006800"/>
            <a:ext cx="1938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Единственото нещо, което ще вземем с нас в небето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е нашият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характер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CGA00535" descr=""/>
          <p:cNvPicPr/>
          <p:nvPr/>
        </p:nvPicPr>
        <p:blipFill>
          <a:blip r:embed="rId1"/>
          <a:stretch/>
        </p:blipFill>
        <p:spPr>
          <a:xfrm>
            <a:off x="5410080" y="4572000"/>
            <a:ext cx="3373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ормирането на характера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бавен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постепенен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процес, затова бъдете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търпеливи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остоянни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GA00377" descr=""/>
          <p:cNvPicPr/>
          <p:nvPr/>
        </p:nvPicPr>
        <p:blipFill>
          <a:blip r:embed="rId1"/>
          <a:stretch/>
        </p:blipFill>
        <p:spPr>
          <a:xfrm>
            <a:off x="7553160" y="2590920"/>
            <a:ext cx="15908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Моралните добродетели оформят характера на човека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GA00094" descr=""/>
          <p:cNvPicPr/>
          <p:nvPr/>
        </p:nvPicPr>
        <p:blipFill>
          <a:blip r:embed="rId1"/>
          <a:stretch/>
        </p:blipFill>
        <p:spPr>
          <a:xfrm>
            <a:off x="6711840" y="3413160"/>
            <a:ext cx="24321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Това включва честност, уравновесеност, грижа за другите, религиозна почтеност, морални идеали, последователност, себевладение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GA00534" descr=""/>
          <p:cNvPicPr/>
          <p:nvPr/>
        </p:nvPicPr>
        <p:blipFill>
          <a:blip r:embed="rId1"/>
          <a:stretch/>
        </p:blipFill>
        <p:spPr>
          <a:xfrm>
            <a:off x="6977160" y="2286000"/>
            <a:ext cx="2166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овороденото няма характер-то е материал за изграждане на характер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GA00106" descr=""/>
          <p:cNvPicPr/>
          <p:nvPr/>
        </p:nvPicPr>
        <p:blipFill>
          <a:blip r:embed="rId1"/>
          <a:stretch/>
        </p:blipFill>
        <p:spPr>
          <a:xfrm>
            <a:off x="5969160" y="4178160"/>
            <a:ext cx="31748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Как се изгражда характер?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GA00121" descr=""/>
          <p:cNvPicPr/>
          <p:nvPr/>
        </p:nvPicPr>
        <p:blipFill>
          <a:blip r:embed="rId1"/>
          <a:stretch/>
        </p:blipFill>
        <p:spPr>
          <a:xfrm>
            <a:off x="6813720" y="3767040"/>
            <a:ext cx="23302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Ранното детство е решаващ период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за изграждането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на характера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GA00124" descr=""/>
          <p:cNvPicPr/>
          <p:nvPr/>
        </p:nvPicPr>
        <p:blipFill>
          <a:blip r:embed="rId1"/>
          <a:stretch/>
        </p:blipFill>
        <p:spPr>
          <a:xfrm>
            <a:off x="6794640" y="3708360"/>
            <a:ext cx="23493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Добрата семейна атмосфера съдейства за оформяне благороден характер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GA00150" descr=""/>
          <p:cNvPicPr/>
          <p:nvPr/>
        </p:nvPicPr>
        <p:blipFill>
          <a:blip r:embed="rId1"/>
          <a:stretch/>
        </p:blipFill>
        <p:spPr>
          <a:xfrm>
            <a:off x="6402240" y="3994200"/>
            <a:ext cx="27417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7T15:37:55Z</dcterms:created>
  <dc:creator>Pacific Health</dc:creator>
  <dc:description/>
  <dc:language>en-US</dc:language>
  <cp:lastModifiedBy>Pacific Health</cp:lastModifiedBy>
  <dcterms:modified xsi:type="dcterms:W3CDTF">1998-12-08T08:22:42Z</dcterms:modified>
  <cp:revision>8</cp:revision>
  <dc:subject/>
  <dc:title>No Slide Title</dc:title>
</cp:coreProperties>
</file>